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3982BB-6BA0-4514-A9C6-6DDC0E6453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8543BC-679D-4878-9FC4-93AA2C380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88133B-8881-4BBB-B23C-8F70A28CBD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340872-DF9A-4156-B035-BB2EDD3C6E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962000" y="617400"/>
            <a:ext cx="2724480" cy="2043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8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F5F88D-03F9-4AD1-A30D-2B8338885C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D2E117-C40A-4E54-A8A4-C409B06E80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D84DA2-9B7B-4445-9FFD-72389DF04D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46C862-7B0E-4D16-A3AE-E696689E44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9E88A6-B46C-495E-BE61-FEF3BE5C451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C9D741-CC0F-4FDE-BDF4-C2268DBAC2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0E04437-37DF-4E64-810F-CFB1C7BE3A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0D85E30-8A82-411F-AE47-3409D4CB8B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DED9F0-7ADC-4E25-A360-5F7EF526BD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936800" y="598320"/>
            <a:ext cx="2776320" cy="2082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525DAB-62B8-478F-A114-8032DBFEFA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7600" cy="34196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410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the perspective of the individual achieving a certification, there are four interrelated reasons why individuals want to attain a certifica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knowledge or skil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presti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marketabil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compens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viously, by virtue of going through the educational process and completing the knowledge and/or skill demonstration required by a certification, the individual will have gained in knowledge and/or skill. From an interpersonal standpoint, this designation should translate into higher levels of prestige within the individual’s profession. But, perhaps more importantly from the individual’s perspective, the attainment of a certification and the accompanying acknowledgement of knowledge and/or skills acquired should translate into increased ability to move within the profession either laterally within or between organizations or vertically to higher-level position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ally, with the attainment of a certification and the acknowledgement of knowledge and skills acquired a justification for increases in compensation exists. And, in fact, most organization, recognize that the attainment of the better known and more applicable certifications do translate into increases in compensat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11E934-6573-40FE-81C0-69FF4B48B4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936800" y="598320"/>
            <a:ext cx="2776320" cy="2082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5FD20D6-9D2B-4645-BF59-C1FED9A740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47A77A-9823-42E3-930C-4789E4B69F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442DB5-A91C-4803-ACA4-7DE03B14B6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4F77D9-CC88-4F7A-8A55-D8F16FB804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959120" y="614520"/>
            <a:ext cx="2725560" cy="2044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9989-3AD3-4D7F-AA4E-28CD4BD5CD2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662C-9E8C-4A3A-A9E7-29FD2742234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EF8A-88B9-4B2D-96B0-8BF4B7F4E4C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26DA-5472-4540-B8CA-07C7E7E5673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32CC-58D1-4844-B601-5FB4167C80F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3751-0D3B-4F8D-B1CB-5AFA0BA1EE1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C90C-91E6-46AD-B773-7AFA34F9CBF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F2EC-4C7C-4D76-B07A-CF1028F5253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A506-79B6-4BF0-AAAE-8E5BA70C1C4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264F-1739-42E7-A6EE-3435CCFEA98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4AFE-EC5C-410E-A5F1-0E6807B1ECE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D161-CEF4-46F2-934D-6A8F23382D3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8EB0-219E-46DF-AC97-BFCB809EC79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9B13-076A-431E-A996-9E0C3015129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DCE0-CD85-4037-A2A7-22AF76785D8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8E62-6530-4D10-8EAE-FA4E95AF389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6215040" y="656748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I - Course Overview - </a:t>
            </a:r>
            <a:fld id="{E7E3A231-578F-43AE-AC5B-D0D44168332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L6%20Software%20quality.ppt" TargetMode="External"/><Relationship Id="rId2" Type="http://schemas.openxmlformats.org/officeDocument/2006/relationships/hyperlink" Target="file:///Using%20PSP2.ppt" TargetMode="External"/><Relationship Id="rId3" Type="http://schemas.openxmlformats.org/officeDocument/2006/relationships/hyperlink" Target="file:///ASGKIT%20PROG5.doc" TargetMode="External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Week2Day7/L7%20Software%20Design%20I.ppt" TargetMode="Externa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"/>
          <p:cNvSpPr/>
          <p:nvPr/>
        </p:nvSpPr>
        <p:spPr>
          <a:xfrm>
            <a:off x="990720" y="19652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000000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Course Overview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 learn the PSP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ng the assigned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nding the class lectures, tutorials, and worksh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ng th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plan to spend two weeks of classroom time and a few additional days outside of class to complete the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tudent is expected to make this commi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nd Rules for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17360" y="1709640"/>
            <a:ext cx="741348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here on time; we will start on time each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nd all sessions; discuss any exceptions with instruc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this room a “quiet zone” during lab periods; move conversations outs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ust use the PSP techniques and methods on the assignments. Your goal is to learn the process, not just to write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n in assignments that are correct, complete, and in the proper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2 Day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04920" y="1447920"/>
          <a:ext cx="8454960" cy="3995640"/>
        </p:xfrm>
        <a:graphic>
          <a:graphicData uri="http://schemas.openxmlformats.org/drawingml/2006/table">
            <a:tbl>
              <a:tblPr/>
              <a:tblGrid>
                <a:gridCol w="1331640"/>
                <a:gridCol w="7123320"/>
              </a:tblGrid>
              <a:tr h="43812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over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1"/>
                        </a:rPr>
                        <a:t>L6. Software qu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396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2"/>
                        </a:rPr>
                        <a:t>Using PSP2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3"/>
                        </a:rPr>
                        <a:t>Program 5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92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740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2 Day 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304920" y="1447920"/>
          <a:ext cx="8454960" cy="3666960"/>
        </p:xfrm>
        <a:graphic>
          <a:graphicData uri="http://schemas.openxmlformats.org/drawingml/2006/table">
            <a:tbl>
              <a:tblPr/>
              <a:tblGrid>
                <a:gridCol w="1331640"/>
                <a:gridCol w="7123320"/>
              </a:tblGrid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24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1"/>
                        </a:rPr>
                        <a:t>L7. Software Design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PSP2.1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6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2 Day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04920" y="1447920"/>
          <a:ext cx="8454960" cy="3498840"/>
        </p:xfrm>
        <a:graphic>
          <a:graphicData uri="http://schemas.openxmlformats.org/drawingml/2006/table">
            <a:tbl>
              <a:tblPr/>
              <a:tblGrid>
                <a:gridCol w="1331640"/>
                <a:gridCol w="7123320"/>
              </a:tblGrid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8. Software design II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machine verification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7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2 Day 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04920" y="1447920"/>
          <a:ext cx="8454960" cy="3644640"/>
        </p:xfrm>
        <a:graphic>
          <a:graphicData uri="http://schemas.openxmlformats.org/drawingml/2006/table">
            <a:tbl>
              <a:tblPr/>
              <a:tblGrid>
                <a:gridCol w="1331640"/>
                <a:gridCol w="7123320"/>
              </a:tblGrid>
              <a:tr h="46116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. Design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verification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8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80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2 Day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04920" y="1447920"/>
          <a:ext cx="8454960" cy="4019400"/>
        </p:xfrm>
        <a:graphic>
          <a:graphicData uri="http://schemas.openxmlformats.org/drawingml/2006/table">
            <a:tbl>
              <a:tblPr/>
              <a:tblGrid>
                <a:gridCol w="1331640"/>
                <a:gridCol w="7123320"/>
              </a:tblGrid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0. Using the P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report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feedback and 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o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Course Ho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unfinished program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Course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304920" y="1447920"/>
          <a:ext cx="8454960" cy="982440"/>
        </p:xfrm>
        <a:graphic>
          <a:graphicData uri="http://schemas.openxmlformats.org/drawingml/2006/table">
            <a:tbl>
              <a:tblPr/>
              <a:tblGrid>
                <a:gridCol w="2819160"/>
                <a:gridCol w="2816280"/>
                <a:gridCol w="2819520"/>
              </a:tblGrid>
              <a:tr h="531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stimated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re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5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or introd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logistics and building 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introd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 and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language you will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Course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a software process course.  The objectiv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e you to a process-based approach for developing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measure and analyze your personal software process (PS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use process data to improve your personal perform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apply these methods to other structured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0" y="1136520"/>
            <a:ext cx="4103640" cy="52945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06200" y="9666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I-Certified PSP Develop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01600" y="1747800"/>
            <a:ext cx="47926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-certified professionals will realize an increas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552840" y="4273200"/>
            <a:ext cx="5216400" cy="1662120"/>
          </a:xfrm>
          <a:prstGeom prst="rect">
            <a:avLst/>
          </a:prstGeom>
          <a:solidFill>
            <a:srgbClr val="dfdbcb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ly or wrongly, companies place a value on certification, and it will up your salar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W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pri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Course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requi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 a programming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the pre-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ful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basic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read simple formal no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development environ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soft Word, Excel and Access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SP Part I: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 to PSP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ze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SP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80024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SP Part II: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machine desig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ver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ver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TS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course reading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ical course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cture:  review key topics from text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or report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-course ho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ctors that affect your evaluation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the data that you sub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pleteness and consistency of your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herence to the proper order and format of assignment sub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analysis of your PSP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or Avail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ors will be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class hours each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class by phone or e-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08Z</dcterms:modified>
  <cp:revision>139</cp:revision>
  <dc:subject/>
  <dc:title>No Slide Title</dc:title>
</cp:coreProperties>
</file>